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0A1-43A5-469B-AC47-9736C776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F06-6427-4042-BE8D-E866A83F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BB7-318A-4EB5-925E-5E5C1CC0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D98-3F92-4C2F-A818-91906F26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28F-0741-4C5A-B7F1-87DC3710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7A1A-05E4-4718-B015-C8D5B6F2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D247-39A4-4374-9239-0B89FB0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06CF-8738-4E90-BDE1-CEA98886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2A79-81FC-45C2-B318-7571C221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BC2-2442-4F4E-AEF0-310F6A11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F4ED-FDA0-4B9B-9197-83E710F5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6C2-3FFE-4CF1-AB3B-A66A2DF2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1165-D6CB-4954-A718-430D69EC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F576-3622-48DF-9B82-3977D921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7F0A-1030-4732-8227-F48DDB95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5EBB-A166-47CC-9356-B24A9AE0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993C-CFDB-42FD-9CA4-92711230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A5A-6247-416B-9917-5E305CD4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06A-6781-42E5-AFFC-0E58657E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DFC-4183-4BA2-8DDF-39CE5552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9AA-65F1-4AA5-8131-9F79E8CA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FA8-6532-4631-B61A-1C98582A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CDC-E9B6-41C7-BB4E-BF4CB24C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67A-6CAF-422B-B741-28A6C95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1EA8-4D68-40BD-A1D0-60964C3D2EF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3463-8C08-4C0B-990F-6B79A877D3B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HP VEE Programm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By Chris Robinson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Product Manager of Data Acquisition at Amplicon Liveline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DIFFERENT WAYS TO CHOOSE A FUNCTION BLOCK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en-GB" sz="2400" spc="-1" strike="noStrike">
                <a:solidFill>
                  <a:srgbClr val="402000"/>
                </a:solidFill>
                <a:latin typeface="Times New Roman"/>
              </a:rPr>
              <a:t>There are over 350 built in functions to choose from, these are the three main ways to find the right on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ce996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From pull-down menu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ce9964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or most popular functions (explained later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ce996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From “</a:t>
            </a:r>
            <a:r>
              <a:rPr b="0" lang="en-GB" sz="24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evice” men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ce9964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 summary of functions can be found by selecting “</a:t>
            </a:r>
            <a:r>
              <a:rPr b="0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evice”, then “Math &amp; Fu</a:t>
            </a:r>
            <a:r>
              <a:rPr b="0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tions”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ce996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 Fx ic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ce9964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he shortcut to “Math &amp; Functions” - There are five types of functions, for types of functions with a wide selection, there are often submenu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FUNCTION  BLOCKS ACCESSABLE FROM PULL-DOWN MENU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680" y="2666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ow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For blocks that generate trigger signal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f/Then/Els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OK butto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Repeat Until / Repeat for cou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Gat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7" name="Titlebar" descr=""/>
          <p:cNvPicPr/>
          <p:nvPr/>
        </p:nvPicPr>
        <p:blipFill>
          <a:blip r:embed="rId1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5268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FUNCTION  BLOCKS ACCESSABLE FROM PULL-DOWN MENU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680" y="2666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vic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Function libraries, and Miscellaneou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mport libraries of special function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lect function from alphabetical list (using submenu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Blank “Formula” bloc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Virtual function generator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quenc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1" name="Titlebar" descr=""/>
          <p:cNvPicPr/>
          <p:nvPr/>
        </p:nvPicPr>
        <p:blipFill>
          <a:blip r:embed="rId1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33920" y="2286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FUNCTION  BLOCKS ACCESSABLE FROM PULL-DOWN MENU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a</a:t>
            </a: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Requesting, creating, or modifying dat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Knobs and Slider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lection control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Build or Un-build more complicated data types (such as Waveforms, Records or Dataset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Pop-up dialog box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Blocks which connect together or build array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Titlebar" descr=""/>
          <p:cNvPicPr/>
          <p:nvPr/>
        </p:nvPicPr>
        <p:blipFill>
          <a:blip r:embed="rId1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95680" y="2286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FUNCTION  BLOCKS ACCESSABLE FROM PULL-DOWN MENU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00200" y="26665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i</a:t>
            </a: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lay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Graphs and viewpor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lphanumeri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trip chart (accepts numbers only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aveform or XY plo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X vs Y plo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pectrum and phase plo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Labels and notepad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9" name="Titlebar" descr=""/>
          <p:cNvPicPr/>
          <p:nvPr/>
        </p:nvPicPr>
        <p:blipFill>
          <a:blip r:embed="rId1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52880" y="2286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OTHER IMPORTANT FEATUR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2000"/>
                </a:solidFill>
                <a:latin typeface="Times New Roman"/>
              </a:rPr>
              <a:t>Custom Panel View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2000"/>
                </a:solidFill>
                <a:latin typeface="Times New Roman"/>
              </a:rPr>
              <a:t>Extensive plug-in card suppor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2000"/>
                </a:solidFill>
                <a:latin typeface="Times New Roman"/>
              </a:rPr>
              <a:t>All blocks can have properties edited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PANEL VIEW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lect the parts of your program you want the user to see (hold down control, click on blocks, then choose “Add to Panel”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Edit properties of display features without changing the layout of the editing scree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hen saved as a runtime, this is all that is see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Have multiple panel views using the “show panel” and “hide panel” function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2171880"/>
            <a:ext cx="3809880" cy="3427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PLUG-IN CARD SUPPORT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Full functionality of cards are supporte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Drivers and support for cards from numerous manufacturer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Each function is represented in standard HP VEE forma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Many manufacturers also supplier higher level function blocks, to simplify programming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Most manufacturers have their drivers available on their own pull down menu which appears when the drivers are installe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EDITING THE PROPERTIES OF BLO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2457360"/>
            <a:ext cx="3581280" cy="1422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9520" y="17524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lick here or do a right mouse click over the block to get the menu specific to the block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elect “edit properties”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Modify the appearance of the block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Layout of dat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Colou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Fon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ce9964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Numerical forma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2096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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SPACE SAV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2457360"/>
            <a:ext cx="3581280" cy="1422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9520" y="2057040"/>
            <a:ext cx="4953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lick here to reduce the space taken up by the block. Double click on a minimised block to expand it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Bunch blocks together into “User Objects”, or “User Functions”. (The latter can be called from other parts of the program, and appears in the functions summary (explained earlier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ce9964"/>
              </a:buClr>
              <a:buSzPct val="9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Remember - a user object or function will not output any data until completely finished. Its good to keep your program tidy, but make sure you don’t lose dat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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he Rules for programming in HP VE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re are only two major rules you have to learn with HP VEE: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to connect the blocks together so that the data flows correctly, and the function blocks action in the correct orde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Transactions: how to transfer data to and from HP VE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USEFUL HINTS…</a:t>
            </a:r>
            <a:br>
              <a:rPr sz="4400"/>
            </a:b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PLEASE REA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1676520"/>
            <a:ext cx="70102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Never build a loop in a program without using a “Repeat” and a “Next” block. Drawing a line from the bottom of the program to the top with make it impossible for VEE to know where to star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Any blocks without a data input or trigger input connected will run at the start of an HP VEE program and at no other time. This is therefore a constan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re are two types of buttons: “OK” in the “flow” menu, and “button” in the “Data =&gt; Toggle control” menu. The latter often needs to have a reset control input added. With “OK”, decide whether you want in in-line or parallel to the rest of the program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at was a whistle-stop tour of how HP VEE work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f you have any technical or application questions or wish to order, please contact the UK Channel partner for HP VEE - Amplicon on (+44) 1273 57022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Rule 1: How to Connect Blo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 TERMINALS (OR PINS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   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rigger inpu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ata In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                Result Ou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ontrol In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  Error Ou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                             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rigger outpu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47242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Connecting the terminals</a:t>
            </a:r>
            <a:br>
              <a:rPr sz="4400"/>
            </a:b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 - In detai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Data inputs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HP VEE handles numerous data types, including waveforms, multi-dimensional arrays, and strings. The data </a:t>
            </a:r>
            <a:r>
              <a:rPr b="0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always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enters a box from the left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Control inputs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These do not action the block, but alter something related to the block. E.g filename, print, or autoscal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Trigger in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This does not have to be connected, but if connected means that the box only actions when there is a change of state on the terminal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Trigger out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This goes high when the block has finished actioning, but only when the data sent out reaches a dead end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Result out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This outputs data as soon as it can. This can sometimes be in the form of trigger signals (e.g. with </a:t>
            </a:r>
            <a:r>
              <a:rPr b="0" i="1" lang="en-GB" sz="2000" spc="-1" strike="noStrike">
                <a:solidFill>
                  <a:srgbClr val="402000"/>
                </a:solidFill>
                <a:latin typeface="Times New Roman"/>
              </a:rPr>
              <a:t>if/then/else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command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02000"/>
                </a:solidFill>
                <a:uFillTx/>
                <a:latin typeface="Times New Roman"/>
              </a:rPr>
              <a:t>Error output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: In many applications when talking to files or comms links, errors are likely, so can be used rather than feared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Rule 2: Transa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952880" cy="2714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3760" y="16765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2000"/>
                </a:solidFill>
                <a:latin typeface="Times New Roman"/>
              </a:rPr>
              <a:t>Definition: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he method of transferring data to and from HP VE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2000"/>
                </a:solidFill>
                <a:latin typeface="Times New Roman"/>
              </a:rPr>
              <a:t>Applies 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RS23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GPIB (HPIB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VX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Fil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Printer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DDE to Excel, Word et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To/From Data se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2000"/>
                </a:solidFill>
                <a:latin typeface="Times New Roman"/>
              </a:rPr>
              <a:t>Does not Apply 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Active X, ISA or PC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RANSACTIONS - Step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563904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hoose the appropriate transaction box from the I/O pull-down men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he example here is the “Direct I/O” transaction box from the “Instrument Manager” option in the I/O pull-down men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Titlebar" descr=""/>
          <p:cNvPicPr/>
          <p:nvPr/>
        </p:nvPicPr>
        <p:blipFill>
          <a:blip r:embed="rId2"/>
          <a:srcRect l="0" t="0" r="27510" b="93476"/>
          <a:stretch/>
        </p:blipFill>
        <p:spPr>
          <a:xfrm>
            <a:off x="1981080" y="2057400"/>
            <a:ext cx="601992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114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2000"/>
                </a:solidFill>
                <a:latin typeface="Wingdings"/>
                <a:ea typeface="Wingdings"/>
              </a:rPr>
              <a:t>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RANSACTIONS - Step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4114800" cy="3857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dd the correct terminals to the block by moving your mouse over the block (labelled here “serial(@ 9)”), pressing the right mouse button, and using the add terminal func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ouble click on the terminals to label them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ny variable in a transaction refers to a terminal of the same nam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RANSACTIONS - Step 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4114800" cy="3857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Times New Roman"/>
              </a:rPr>
              <a:t>To add a transaction to the block: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ouble click in the white area in the middl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he I/O transaction box will appear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elect read or write and the most appropriate format, for the data, then press “OK”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dd Transaction” and “Delete Transaction” options can be seen when you do a right mouse click over the block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FINDING THE RIGHT FUNCTION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3:54:12Z</dcterms:created>
  <dc:creator>Tony Gorbold</dc:creator>
  <dc:description/>
  <dc:language>en-US</dc:language>
  <cp:lastModifiedBy>Demo Unit</cp:lastModifiedBy>
  <dcterms:modified xsi:type="dcterms:W3CDTF">1998-07-15T14:06:52Z</dcterms:modified>
  <cp:revision>23</cp:revision>
  <dc:subject/>
  <dc:title>How to Connect Blocks</dc:title>
</cp:coreProperties>
</file>